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904-0E8C-451C-AF67-4A7BF11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118-B1FA-40B1-B557-C25608E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705-81B1-47D5-B518-AAA6E4CB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0B1-90C1-4E75-8EBE-DA14A35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A3C-335E-4AC3-93AC-E9EE613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B89-78A3-4DBE-9CEA-DC95F52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A0B-E212-412D-B370-0C506D99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0C6-19E2-445F-841A-F0B9271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AAB-BB6D-40F1-B536-7326CF35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529-B2E5-4F90-9553-DD1535B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7F9-F07E-4234-B823-2542C3D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220-7C1A-4715-BD78-09146D6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1C6-260D-4802-8A3E-846EC11A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aw.ou.edu/ushistory/flags/akflag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nchantedlearning.com/usa/states/alaska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5029200"/>
            <a:ext cx="365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li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3716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66cc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hiller"/>
              </a:rPr>
              <a:t>Alaska</a:t>
            </a:r>
            <a:endParaRPr b="1" i="1" lang="en-US" sz="5400" spc="1" strike="noStrike">
              <a:ln cap="rnd" w="9360">
                <a:solidFill>
                  <a:srgbClr val="66cc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91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5181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257800"/>
            <a:ext cx="4190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aska's Flag, 4/10/2012, www.50state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 Jun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722,7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entered the union: Jan. 3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North to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Last frontier, or Great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Forget m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Willow ptarm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Alaska's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Russian ver. Of Aleutian word Alakshak meaning “great lands” or “penins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324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: 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: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 sledding is a very popular  sport in Alas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716292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62920" y="552924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457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ska's  STATE FL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09588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ska’s fla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ushistory/flags/akfla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380880"/>
            <a:ext cx="72392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of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ol is June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86728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s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alas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533520"/>
            <a:ext cx="6933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aska’s state gem and Mi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oduct Details"/>
          <p:cNvPicPr/>
          <p:nvPr/>
        </p:nvPicPr>
        <p:blipFill>
          <a:blip r:embed="rId1"/>
          <a:stretch/>
        </p:blipFill>
        <p:spPr>
          <a:xfrm>
            <a:off x="0" y="1523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4419720"/>
            <a:ext cx="33530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o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een Jade Circle Shape Silver Tone Ai Love Pendant Necklace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mazon.com/Green-Circle-Silver-Pendant-Necklace/dp/B0067KKBFQ/ref=sr_1_36?s=jewelry&amp;ie=UTF8&amp;qid=1332423188&amp;sr=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295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: J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1430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: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523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52Z</dcterms:created>
  <dc:creator>install</dc:creator>
  <dc:description/>
  <dc:language>en-US</dc:language>
  <cp:lastModifiedBy>install</cp:lastModifiedBy>
  <dcterms:modified xsi:type="dcterms:W3CDTF">2012-04-16T13:06:40Z</dcterms:modified>
  <cp:revision>14</cp:revision>
  <dc:subject/>
  <dc:title>Slide 1</dc:title>
</cp:coreProperties>
</file>